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95EA-BE4E-4E77-BB6B-714E1DF9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7513-9F20-4201-974D-BD50D235FD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82CA-D43A-4A7D-9990-79525495A5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8FB-92D9-4284-B9AB-E124FA05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5481-3C4E-45F2-ABCC-E6CA4E98B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GC is a not for profit consortium dedicated to the development of specifications that enable geospatial technologies to “plug and play” across any device, platform or network.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The OGC consists of 380+ members - geospatial technology software vendors, systems integrators, government agencies and universities  - participating in a consensus process to develop, test, and document publicly available interface specifications and encodings for the geospatial industry. Open interfaces and protocols defined by OpenGIS® Specifications are designed to support interoperable solutions that "geo-enable" the Web, wireless and location-based services, and mainstream IT, and to empower technology developers to make complex spatial information and services accessible and useful to all kinds of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Baskerville-Roman"/>
              </a:rPr>
              <a:t>Prevents a single, self-interested party from controlling a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Baskerville-Roman"/>
              </a:rPr>
              <a:t>Facilitates competition by lowering the cost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Baskerville-Roman"/>
              </a:rPr>
              <a:t>Stimulates innovation beyond the standard by companies that seek to differentiate themse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Baskerville-Roman"/>
              </a:rPr>
              <a:t>Customers value the interoperability that open standards provide and generally benefit from not being locked into a particular supp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B7A-1772-427E-B469-E69906517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97FC-703F-4C21-8AC2-9CB9E2B8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FAD4-018F-4258-AB71-D2AB2ADF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E09F-8D0A-4E47-99CA-10B56429B9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A28-B8A6-4E77-B98C-F51A11B8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3F3-4E4A-493C-BA73-93A408E3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131-A2A7-4140-B4BF-169EFE46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5A7-777A-4C7C-B3CD-4B372972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46F1-54E3-46B1-81FB-B5864233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856B-422A-457F-A1AA-922202D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A257-174C-42EB-9173-262D92DB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16AC-6727-4924-A8DC-BB53DE7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241C-9873-42A1-8585-8889D84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14B2-C8FF-4B0D-865B-8CC18864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3A6B-E90C-4D2C-9CC8-2F824F5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903-97C9-4D3C-9A83-4170E3F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EE90-2207-4EE3-8D46-4AC47D3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36A4-6A77-49C5-9618-D4B7A5C7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298A-6B37-4E6E-9575-A24310B2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C93E-CA31-4FBC-B174-3457887F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1D24-C4EC-434D-B9E2-B461C5BF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7CF02-CA3A-4288-800C-88D8DDB932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4916C-1B81-4E1E-87AD-DFCE0E9456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F3B29-B134-476B-B682-9E88EF8AA8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589C2-096C-4537-A073-09F976E8EA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09EAA9-A7E2-4D32-A979-930C2F5A9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FA7-F219-4441-8AEE-636D2D40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E3CAC-7F7C-4421-B4D6-B47465D6C9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B4583-52EA-4356-9E02-506B29BC7E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70CCF-D2F2-40C9-A900-4BACA83EFF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F356D7-C2C5-4DA2-86BF-5422FBF7C2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4444E-3E27-4EAB-83A9-EC665EFB66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8E836-10AE-40E1-AC96-DF67B3F9F2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3070A8-B6BF-4E37-BFF9-5D0D9183C5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B59-EBC5-4A7E-9566-4F01002E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2C2-189C-4FCF-AAC8-EB1A663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DA4-654D-48E3-AAD2-B1D2671A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CA7-17E0-45CF-9E6E-45CE4CC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2E8-DCF9-432B-B39F-883E66B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A95-4E9F-46A2-A7C9-B27997A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E59-E0F7-4DDE-8236-4DCEC9AC3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D31D-14CC-488E-9E70-BBCF85DDE6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26B7-4EE0-4AA2-B184-8D93358053BC}" type="slidenum"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04920" y="64771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843960" y="6340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Helping the World to Communic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Geographica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exagons.png                                                   0005D1B2JeffToo                        ABA78158: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C:\Documents and Settings\Greg Buehler.JUMBO\Desktop\OGC_Logo_No_Border_Blue_3D.bmp"/>
          <p:cNvPicPr/>
          <p:nvPr/>
        </p:nvPicPr>
        <p:blipFill>
          <a:blip r:embed="rId3"/>
          <a:stretch/>
        </p:blipFill>
        <p:spPr>
          <a:xfrm>
            <a:off x="380880" y="6248520"/>
            <a:ext cx="14036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\\.host\Shared Folders\LinuxDesktop\templates\ppt_image_081104.tif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lists.opengeospatial.org/mailman/listinfo/hydro.dw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960" y="12729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GC/WM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ydrology Domain Working Group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sion, activities, 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400" y="40384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ya Zaslav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Information Systems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1295280" y="6400800"/>
            <a:ext cx="60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SIP Summer Meeting – ESIP Water Data Group, July 21,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© 2009 Open Geospatial Consortium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1382-7F88-44C9-A8CA-0DDA8E9BC45A}" type="slidenum"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009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paper on harmonization of water data exchange formats (1st version) ; IE1 annou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2009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the harmonization report; Propose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terML 2.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announced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ly launched, IE 2 annou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0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ML 2.0 in Beta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unched; Harmonization report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2010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1 final report, leading to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st practice pap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results; possibly IE3 launched (water quality? forecasting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11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terML 2.0 releas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fter RFC package -&gt; SWG -&gt; public comment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ting)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sk force started (with GRDC, CSIRO, CUAHSI, others) 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06280">
              <a:spcBef>
                <a:spcPts val="34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pril 2011: a HDWG all-hands workshop (3-4 day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2 final report, and a pa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aterML best practices, service stacks and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92e5c"/>
                </a:solidFill>
                <a:latin typeface="Arial"/>
              </a:rPr>
              <a:t>Interoperability Experimen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720" y="1294920"/>
            <a:ext cx="28717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ound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SC\US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 09 – Dec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S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un 10 – Jun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WS\Delt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 10 – Dec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357720" y="1428840"/>
            <a:ext cx="135720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071960" y="2643120"/>
            <a:ext cx="135720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786200" y="3786120"/>
            <a:ext cx="135756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500800" y="4929120"/>
            <a:ext cx="135720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286680" y="5429160"/>
            <a:ext cx="135720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357720" y="2643120"/>
            <a:ext cx="714240" cy="357120"/>
          </a:xfrm>
          <a:prstGeom prst="rect">
            <a:avLst/>
          </a:prstGeom>
          <a:solidFill>
            <a:srgbClr val="b8b8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071960" y="3786120"/>
            <a:ext cx="714240" cy="357120"/>
          </a:xfrm>
          <a:prstGeom prst="rect">
            <a:avLst/>
          </a:prstGeom>
          <a:solidFill>
            <a:srgbClr val="b8b8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786200" y="4929120"/>
            <a:ext cx="714600" cy="357120"/>
          </a:xfrm>
          <a:prstGeom prst="rect">
            <a:avLst/>
          </a:prstGeom>
          <a:solidFill>
            <a:srgbClr val="b8b8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572080" y="5429160"/>
            <a:ext cx="714600" cy="357120"/>
          </a:xfrm>
          <a:prstGeom prst="rect">
            <a:avLst/>
          </a:prstGeom>
          <a:solidFill>
            <a:srgbClr val="b8b8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4"/>
          <p:cNvSpPr/>
          <p:nvPr/>
        </p:nvSpPr>
        <p:spPr>
          <a:xfrm>
            <a:off x="4071960" y="1143000"/>
            <a:ext cx="0" cy="4714920"/>
          </a:xfrm>
          <a:prstGeom prst="line">
            <a:avLst/>
          </a:prstGeom>
          <a:ln w="2844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AHSI Water Data Services, April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527-6AC1-4B60-BB91-B996E47D40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871560" y="1066680"/>
            <a:ext cx="7815240" cy="4291200"/>
            <a:chOff x="871560" y="1066680"/>
            <a:chExt cx="7815240" cy="4291200"/>
          </a:xfrm>
        </p:grpSpPr>
        <p:pic>
          <p:nvPicPr>
            <p:cNvPr id="22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1066680"/>
              <a:ext cx="7586640" cy="42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6"/>
            <p:cNvSpPr/>
            <p:nvPr/>
          </p:nvSpPr>
          <p:spPr>
            <a:xfrm>
              <a:off x="6782040" y="4038840"/>
              <a:ext cx="190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Map Integrating NWIS, STORET, &amp; Climatic Site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7"/>
          <p:cNvSpPr/>
          <p:nvPr/>
        </p:nvSpPr>
        <p:spPr>
          <a:xfrm>
            <a:off x="0" y="419112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 publi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,200+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8 million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.9 million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7 billion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6% of them search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5198040" y="5722920"/>
            <a:ext cx="34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largest water data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talog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Agency Water Data Services at HISCentral (04/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447920"/>
          <a:ext cx="8610480" cy="5181480"/>
        </p:xfrm>
        <a:graphic>
          <a:graphicData uri="http://schemas.openxmlformats.org/drawingml/2006/table">
            <a:tbl>
              <a:tblPr/>
              <a:tblGrid>
                <a:gridCol w="1390680"/>
                <a:gridCol w="1047600"/>
                <a:gridCol w="1187280"/>
                <a:gridCol w="1765440"/>
                <a:gridCol w="3219480"/>
              </a:tblGrid>
              <a:tr h="56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etwork Na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Site 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Value 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Earliest Ob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WISD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3843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-compliant GetValues service from NWIS, catalog ing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EP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2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80763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AP wrapper over WQX services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WISU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033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-compliant GetValues Service, catalog ing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CDC IS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0000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-compliant GetValues service from NCDC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CDC IS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165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1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-compliant GetValues service from NCDC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WISII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9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501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9/1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AP wrapper over NWIS web site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WISG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27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91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AP wrapper over NWIS web site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RIVERGAG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3101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 compliant REST services from Army Corps of Engine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"/>
          <p:cNvPicPr/>
          <p:nvPr/>
        </p:nvPicPr>
        <p:blipFill>
          <a:blip r:embed="rId1"/>
          <a:srcRect l="938" t="19460" r="1875" b="9081"/>
          <a:stretch/>
        </p:blipFill>
        <p:spPr>
          <a:xfrm>
            <a:off x="-33480" y="762120"/>
            <a:ext cx="9177480" cy="48765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logic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328680" y="5878440"/>
            <a:ext cx="4292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central.cuahsi.org/startree.asp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57150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GC/WMO Hydrology Domain Working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ublic mailing list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s://lists.opengeospatial.org/mailman/listinfo/hydro.d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wiki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xternal.opengis.org/twiki_public/bin/view/HydrologyD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The CUAHSI HIS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ject web site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is.cuahsi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ank you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zaslavsk@sdsc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Placeholder 2"/>
          <p:cNvSpPr/>
          <p:nvPr/>
        </p:nvSpPr>
        <p:spPr>
          <a:xfrm>
            <a:off x="685800" y="533520"/>
            <a:ext cx="77724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DSC Spatial Information Systems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80060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search and syste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-based spatial information integration infrastructure, CI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tion services for spatial data, query processing, map assembl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-term spatial data pre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tial data standards and technologies for online GIS (OGC standards, standards develop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of spatial data projects at SDSC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geo_integration"/>
          <p:cNvPicPr/>
          <p:nvPr/>
        </p:nvPicPr>
        <p:blipFill>
          <a:blip r:embed="rId1"/>
          <a:stretch/>
        </p:blipFill>
        <p:spPr>
          <a:xfrm>
            <a:off x="4784760" y="1927080"/>
            <a:ext cx="3473280" cy="249264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5"/>
          <p:cNvSpPr/>
          <p:nvPr/>
        </p:nvSpPr>
        <p:spPr>
          <a:xfrm>
            <a:off x="4419720" y="3219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214240" y="37339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735080" y="1523880"/>
            <a:ext cx="41202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osciences CI (GEON, CUAHSI, CBEO, OOI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regional_picture"/>
          <p:cNvPicPr/>
          <p:nvPr/>
        </p:nvPicPr>
        <p:blipFill>
          <a:blip r:embed="rId2"/>
          <a:stretch/>
        </p:blipFill>
        <p:spPr>
          <a:xfrm>
            <a:off x="304920" y="3657600"/>
            <a:ext cx="2977920" cy="2173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0"/>
          <p:cNvSpPr/>
          <p:nvPr/>
        </p:nvSpPr>
        <p:spPr>
          <a:xfrm>
            <a:off x="76320" y="5987880"/>
            <a:ext cx="4800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regional development (NIEHS SRP, CRN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 flipV="1">
            <a:off x="4800600" y="2305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haiyun3a"/>
          <p:cNvPicPr/>
          <p:nvPr/>
        </p:nvPicPr>
        <p:blipFill>
          <a:blip r:embed="rId3"/>
          <a:stretch/>
        </p:blipFill>
        <p:spPr>
          <a:xfrm>
            <a:off x="4648320" y="4267080"/>
            <a:ext cx="3870360" cy="20955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3"/>
          <p:cNvSpPr/>
          <p:nvPr/>
        </p:nvSpPr>
        <p:spPr>
          <a:xfrm>
            <a:off x="5882760" y="4084560"/>
            <a:ext cx="3274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Neurosciences (BIRN, CCDB, INC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 flipH="1">
            <a:off x="3429000" y="382896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4800600" y="375300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"/>
          <p:cNvPicPr/>
          <p:nvPr/>
        </p:nvPicPr>
        <p:blipFill>
          <a:blip r:embed="rId4"/>
          <a:stretch/>
        </p:blipFill>
        <p:spPr>
          <a:xfrm>
            <a:off x="7753320" y="5029200"/>
            <a:ext cx="139068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5"/>
          <a:stretch/>
        </p:blipFill>
        <p:spPr>
          <a:xfrm>
            <a:off x="2514600" y="4495680"/>
            <a:ext cx="1981080" cy="1436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8"/>
          <p:cNvSpPr/>
          <p:nvPr/>
        </p:nvSpPr>
        <p:spPr>
          <a:xfrm>
            <a:off x="2818080" y="83880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http://spatial.sdsc.ed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46800" y="644112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ontact: zaslavsk@sdsc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What is the OGC?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n Geospatial Consortium, Inc. (OGC) is a non-profit, international voluntary consensus standards organization that is leading the development of standards for geospatial and location base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GC facilitates a consensus process in which government, private industry, NGOs, and academia collaborate to create open and extensible software application programming interfaces for geospatial and other mainstream information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Benefits of open standard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2720" y="114264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92e5c"/>
              </a:buClr>
              <a:buFont typeface="NewBaskerville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Baskerville-Roman"/>
              </a:rPr>
              <a:t>Prevents a single group from controlling 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lnSpc>
                <a:spcPct val="100000"/>
              </a:lnSpc>
              <a:spcBef>
                <a:spcPts val="400"/>
              </a:spcBef>
              <a:buClr>
                <a:srgbClr val="092e5c"/>
              </a:buClr>
              <a:buFont typeface="NewBaskerville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92e5c"/>
              </a:buClr>
              <a:buFont typeface="NewBaskerville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Baskerville-Roman"/>
              </a:rPr>
              <a:t>Facilitates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499"/>
              </a:spcBef>
              <a:buClr>
                <a:srgbClr val="092e5c"/>
              </a:buClr>
              <a:buFont typeface="NewBaskerville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92e5c"/>
              </a:buClr>
              <a:buFont typeface="NewBaskerville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Baskerville-Roman"/>
              </a:rPr>
              <a:t>Stimulates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499"/>
              </a:spcBef>
              <a:buClr>
                <a:srgbClr val="092e5c"/>
              </a:buClr>
              <a:buFont typeface="NewBaskerville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92e5c"/>
              </a:buClr>
              <a:buFont typeface="NewBaskerville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Baskerville-Roman"/>
              </a:rPr>
              <a:t>Customers benefit from not being locked into a particular supp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lnSpc>
                <a:spcPct val="100000"/>
              </a:lnSpc>
              <a:spcBef>
                <a:spcPts val="400"/>
              </a:spcBef>
              <a:buClr>
                <a:srgbClr val="092e5c"/>
              </a:buClr>
              <a:buFont typeface="NewBaskerville-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Baskerville-Roman"/>
              </a:rPr>
              <a:t>Source: </a:t>
            </a:r>
            <a:r>
              <a:rPr b="1" i="1" lang="en-US" sz="1400" spc="-1" strike="noStrike">
                <a:solidFill>
                  <a:srgbClr val="000000"/>
                </a:solidFill>
                <a:latin typeface="NewBaskerville-Roman"/>
              </a:rPr>
              <a:t>Open Standards, Open Source, and Open Innovation: Harnessing the Benefits of Openness</a:t>
            </a:r>
            <a:r>
              <a:rPr b="0" lang="en-US" sz="1400" spc="-1" strike="noStrike">
                <a:solidFill>
                  <a:srgbClr val="000000"/>
                </a:solidFill>
                <a:latin typeface="NewBaskerville-Roman"/>
              </a:rPr>
              <a:t>, April 2006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ittee For Economic Development. www.ced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349"/>
              </a:spcBef>
              <a:buClr>
                <a:srgbClr val="092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490680" y="5172120"/>
            <a:ext cx="8376480" cy="91692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l part of 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 for CI sustainability and extensibility, esp. with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- CI efforts are also a way to inform standards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92e5c"/>
                </a:solidFill>
                <a:latin typeface="Arial"/>
              </a:rPr>
              <a:t>WMO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.. the UN system's authoritative voice on the state and behaviour of the Earth's atmosphere, its interaction with the oceans, the climate it produces and the resulting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istribution of water resourc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.. facilitates the free and unrestricted exchang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of data and information, products and services in real- or near-real time ..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92e5c"/>
                </a:solidFill>
                <a:latin typeface="Arial"/>
              </a:rPr>
              <a:t>Hydrology Domain Working Group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42720" y="122040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860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joint working group of the OGC and WMO constituted as an OGC Domain Working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ings together interested parties to develop and promote the technology for greatly improving the way in which water information is described and sha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-chaired by representatives nominated by the OGC TC and the World Meteorological Organisation’s (WMO) Commission for Hydrology (CH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2860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Arial"/>
              </a:rPr>
              <a:t>Current Co-Chairs: David Lemon (CSIRO), Ulrich Looser (GRDC) and Ilya Zaslavsky (SD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2860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Arial"/>
              </a:rPr>
              <a:t>&gt; 50 Participants, &gt; 30 Organis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blic mailing list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s://lists.opengeospatial.org/mailman/listinfo/hydro.d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wik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xternal.opengis.org/twiki_public/bin/view/HydrologyD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Expected Outcome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458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re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ature mod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e. what are the features of the hydrosphere (from an information perspective) and how are they relate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re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atio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cabul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dorsed by the community, and by WMO in particular. Agreeing on semantics is a long process, but we should be able to recommend some vocabul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: services carrying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rmon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xisting commonly used protocols and standards in the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operability Experi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Es) focused on selected sub-domains of water data (e.g. surface water, groundwater, water quality, water use, hydrologic forecasts, real tim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 Architecture Implementation Pil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Ps), focused on broader scenarios within the entire domain and across dom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of discussion papers and best practice papers (the latter following IE and AIP experienc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llaboration with other DW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articular ESS (on modeling), MetOcean (on handling gridded data), SWE (on real time data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© 2009 Open Geospatial Consortium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C4C-E760-4423-9EB8-37B74ED2C0DB}" type="slidenum"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3" descr=""/>
          <p:cNvPicPr/>
          <p:nvPr/>
        </p:nvPicPr>
        <p:blipFill>
          <a:blip r:embed="rId1"/>
          <a:stretch/>
        </p:blipFill>
        <p:spPr>
          <a:xfrm>
            <a:off x="334800" y="1292400"/>
            <a:ext cx="8474400" cy="4809960"/>
          </a:xfrm>
          <a:prstGeom prst="rect">
            <a:avLst/>
          </a:prstGeom>
          <a:ln w="0">
            <a:noFill/>
          </a:ln>
        </p:spPr>
      </p:pic>
      <p:sp>
        <p:nvSpPr>
          <p:cNvPr id="191" name="Rounded Rectangle 15"/>
          <p:cNvSpPr/>
          <p:nvPr/>
        </p:nvSpPr>
        <p:spPr>
          <a:xfrm>
            <a:off x="3429000" y="2600280"/>
            <a:ext cx="243828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ular Callout 4"/>
          <p:cNvSpPr/>
          <p:nvPr/>
        </p:nvSpPr>
        <p:spPr>
          <a:xfrm>
            <a:off x="6934320" y="914400"/>
            <a:ext cx="1676160" cy="930240"/>
          </a:xfrm>
          <a:prstGeom prst="wedgeRoundRectCallout">
            <a:avLst>
              <a:gd name="adj1" fmla="val -89078"/>
              <a:gd name="adj2" fmla="val 6454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ro-DWG workplan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ular Callout 6"/>
          <p:cNvSpPr/>
          <p:nvPr/>
        </p:nvSpPr>
        <p:spPr>
          <a:xfrm>
            <a:off x="7358040" y="3071880"/>
            <a:ext cx="1676520" cy="930240"/>
          </a:xfrm>
          <a:prstGeom prst="wedgeRoundRectCallout">
            <a:avLst>
              <a:gd name="adj1" fmla="val -89078"/>
              <a:gd name="adj2" fmla="val 4420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ed Rectangular Callout 7"/>
          <p:cNvSpPr/>
          <p:nvPr/>
        </p:nvSpPr>
        <p:spPr>
          <a:xfrm>
            <a:off x="5715000" y="5500800"/>
            <a:ext cx="1676520" cy="930240"/>
          </a:xfrm>
          <a:prstGeom prst="wedgeRoundRectCallout">
            <a:avLst>
              <a:gd name="adj1" fmla="val -116958"/>
              <a:gd name="adj2" fmla="val -3503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ular Callout 8"/>
          <p:cNvSpPr/>
          <p:nvPr/>
        </p:nvSpPr>
        <p:spPr>
          <a:xfrm>
            <a:off x="609480" y="2819520"/>
            <a:ext cx="1676520" cy="930240"/>
          </a:xfrm>
          <a:prstGeom prst="wedgeRoundRectCallout">
            <a:avLst>
              <a:gd name="adj1" fmla="val 49106"/>
              <a:gd name="adj2" fmla="val 6781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clu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ular Callout 9"/>
          <p:cNvSpPr/>
          <p:nvPr/>
        </p:nvSpPr>
        <p:spPr>
          <a:xfrm>
            <a:off x="1219320" y="990720"/>
            <a:ext cx="1676160" cy="930240"/>
          </a:xfrm>
          <a:prstGeom prst="wedgeRoundRectCallout">
            <a:avLst>
              <a:gd name="adj1" fmla="val 49106"/>
              <a:gd name="adj2" fmla="val 6781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edback to standard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3846960" y="274320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ervatio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3946680" y="306864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a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4021920" y="34290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ocabul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ight Arrow 16"/>
          <p:cNvSpPr/>
          <p:nvPr/>
        </p:nvSpPr>
        <p:spPr>
          <a:xfrm rot="18298800">
            <a:off x="4998600" y="227268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Arrow 17"/>
          <p:cNvSpPr/>
          <p:nvPr/>
        </p:nvSpPr>
        <p:spPr>
          <a:xfrm rot="3241200">
            <a:off x="3637800" y="233352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3988440" y="38131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ices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345960" y="3189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92e5c"/>
                </a:solidFill>
                <a:latin typeface="Arial"/>
              </a:rPr>
              <a:t>Iterativ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285840" y="5786280"/>
            <a:ext cx="16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anks to Peter Fitch for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HDWG Agenda, Silver Spring Meeting, June 14-18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990720"/>
            <a:ext cx="8458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9240" indent="-21924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Introduction, results of Ispra (co-chairs), IEs and Water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8:20: David Lemon, HydroDWG planning and next ste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20-9:40: WaterML 2 and Harmonization Report updates (Pete Taylor and the WaterML 2 design grou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40-9:50 Groundwater IE update (Nate Booth); Surface Water IE announcement and kick-off invitation (Peter Fit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-10:25: Mark Nardi (USGS) - Water use data management at USGS: information model, implementations, prospects of water use sci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24-10:45: Roland Viger and Nate Booth (USGS) - Using existing and emerging OGC standards to support hydrologic mode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45-11:05: Ben Domenico (UNIDATA) - Managing point time series in netCDF/D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05-11:30: John Halquist (NOAA), Peter Gijsbers (Deltares) - Operational hydrologic forecasts and infrastructure operation: use cases and requirements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- Pedro Restrepo (NOAA) - Interagency Water Resources Science and Services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30-11:45: Michael Piasecki (Drexel University), Ilya Zaslavsky (SDSC) - CUAHSI Hydrologic parameter ont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Discussion and 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4:37:11Z</dcterms:created>
  <dc:creator>maidment</dc:creator>
  <dc:description/>
  <dc:language>en-US</dc:language>
  <cp:lastModifiedBy>Brian</cp:lastModifiedBy>
  <dcterms:modified xsi:type="dcterms:W3CDTF">2010-07-27T13:32:53Z</dcterms:modified>
  <cp:revision>121</cp:revision>
  <dc:subject/>
  <dc:title>Slide 1</dc:title>
</cp:coreProperties>
</file>